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AA64-C74E-4127-A976-B3812FC653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7E58-12F8-4E00-9157-6BCAF92FEB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385-B1BC-445E-88FE-26825B5D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08F-E9F5-4F5A-AD1C-21FF5229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3CB-5705-4B7B-B776-1D6E13B8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D495-8730-48E7-B8DA-7353438D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EE75-BBEE-47D2-AE42-02489EA0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7310-C4E0-4FD9-8B47-DDB3D52D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CD55-35BC-497E-9D28-2856DD44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E90C-40B7-469F-BA46-BF147D1B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F804-AE5C-4AB4-8D63-3A41F86D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AB61-B9E4-46BB-B851-C0CDBAD6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8B32-BAAC-4DA1-BC28-F6BDCA4E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FEE-F368-4FE8-9037-22D3F19F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23FB-FECE-4BE5-A853-30114890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FB01-7A90-4FC4-8F80-E51E8D4E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A392-5487-4CE0-8843-A5EDFBBF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9925-6994-44FE-823A-44F7DC60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DD13-CC56-4B9F-A572-2D3B7999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777-24F9-4CDC-B08D-F220470A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8C34-A7CB-4DF9-8E61-F9DF63D1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4F6-60FB-4D9A-8017-7C08DB7E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F4F-2E73-476F-9689-080C37EF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244-5E0A-4909-8477-F4C98D2B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2F5-F320-4F72-9697-A4783EC5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E84-6D8E-4FE0-87EB-8A593CDD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B111-C76D-4C8E-949C-57647F46416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E0F6-0C88-4DBF-A3C4-B1390F899DD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Par1476" TargetMode="External"/><Relationship Id="rId2" Type="http://schemas.openxmlformats.org/officeDocument/2006/relationships/hyperlink" Target="consultantplus://offline/ref=3A596D0D948F2E303421EE5800A2404C4B463D316379106ABD05602B99830309A1DEDE5FC1DFCF3DN8VAK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"/>
          <p:cNvSpPr/>
          <p:nvPr/>
        </p:nvSpPr>
        <p:spPr>
          <a:xfrm>
            <a:off x="228600" y="2209680"/>
            <a:ext cx="8534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ahoma"/>
              </a:rPr>
              <a:t>Порядок возмещения средств из фонда социального страхования на финансовое обеспечение предупредительных мер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6553080" y="2286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1066680" y="457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Федеральный закон от 1 декабря 2014 г. N 386-ФЗ "О бюджете Фонда социального страхования Российской Федерации на 2015 год и на плановый период  2016 и 2017 год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838080" y="4114800"/>
            <a:ext cx="746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можность использования в качестве дополнительного источника финансирования мероприятий по охране труда  части сумм страховых взносов на обязательное социальное страхование от несчастных случаев на производстве и профессиональных заболеваний, (до 20%) на предупредительные меры по сокращению производственного травматиз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2362320" y="144792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1066680" y="2590920"/>
            <a:ext cx="72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врат денежных средств за вычетом расходов, произведенных в предшествующем календарном году на выплату пособий по временной нетрудоспособности в связи с несчастными случаями на производстве или профессиональными заболевания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2438280" y="152280"/>
            <a:ext cx="30481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85800" y="380880"/>
            <a:ext cx="830592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каз Министерства труда и социальной защиты  РФ  от 10 декабря 2012 г. N 580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Об утверждении правил финансового обеспечения предупредительных мер по сокращению производственного травматизма  и профессиональных заболеваний работников и санаторно-курортного лечения работников, занятых на работах с вредными и (или) опасными производственными факторами»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Финансовому обеспечению за счет сумм страховых взносов подлежат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расходы страхователя на следующие мероприят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) проведение специальной оценки условий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) реализация мероприятий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) обучение по охране труда следующих категорий работников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руководителей и специалистов служб охраны труда организаци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членов комитетов (комиссий) по охране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уполномоченных (доверенных) лиц по охране труда профессиональных союзов и иных уполномоченных работниками представительных орган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) приобретение работникам, специальной одежды, специальной обуви и других средств индивидуальной защиты (далее - СИЗ) в соответствии с типовыми нормами бесплатной выдачи СИЗ (далее - типовые нормы) и (или) на основании результатов проведения специальной оценки условий труда, а также смывающих и (или) обезвреживающих средст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990720" y="228600"/>
            <a:ext cx="8153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) санаторно-курортное лечение работников, занятых на работах с вредными и (или) опасными производственными фактор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е) проведение обязательных периодических медицинских осмотров (обследований) работник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ж) обеспечение лечебно-профилактическим питанием (далее - ЛПП) работников, для которых указанное питание предусмотрено Перечнем производств, профессий и должностей, работа в которых дает право на бесплатное получение лечебно-профилактического пита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) приобретение страхователями, работники которых проходят обязательные предсменные и (или) предрейсовые медицинские осмотры, приборов для определения наличия и уровня содержания алкоголя (алкотестеры или алкометр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) приобретение страхователями, осуществляющими пассажирские и грузовые перевозки, приборов контроля за режимом труда и отдыха водителей (тахографов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) приобретение страхователями аптечек для оказания первой помощ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1028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685800" y="232200"/>
            <a:ext cx="8001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редоставления государственной услуги заявитель подает в территориальный орган Фонда на бумажном носителе или в форме электронного документа заявление о финансовом обеспечении предупредительных мер (далее - заявление), форма которого предусмотрена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1"/>
              </a:rPr>
              <a:t>приложение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Административному регламент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838080" y="198432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Исчерпывающий перечень документов, необходимых в соответствии нормативными правовыми актами для предоставления государственной услуги, подлежащих представлению заявителе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2280" y="2931840"/>
            <a:ext cx="8991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заявлению прилагаются документы, необходимые для предоставления государственной услуг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план финансового обеспечения предупредительных мер в текущем календарном году, форма которого предусмотрена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2"/>
              </a:rPr>
              <a:t>приложение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Правилам (далее - план финансового обеспечения предупредительных мер), подготовленный с учетом перечня мероприятий по улучшению условий и охраны труда работников, разработанного по результатам проведения специальной оценки условий труда, и (или) коллективного договора (соглашения по охране труда между работодателем и представительным органом работников), с указанием суммы финансирования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копия перечня мероприятий по улучшению условий и охраны труда работников, разработанного по результатам проведения специальной оценки условий труда, и (или) копия (выписка из) коллективного договора (соглашения по охране труда между работодателем и представительным органом работников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для обоснования финансового обеспечения предупредительных мер заявитель представляет документы (копии документов), обосновывающие необходимость финансового обеспечения каждого из мероприятий, включенных в план финансового обеспечения предупредительных ме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308520"/>
            <a:ext cx="91440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БЛОК-СХЕМА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ПОСЛЕДОВАТЕЛЬНОСТИ ДЕЙСТВИЙ ПРЕДОСТАВЛЕНИЯ  ГОСУДАРСТВЕННОЙ УСЛУГИ ПО ПРИНЯТИЮ РЕШЕНИЯ О ФИНАНСОВОМ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ОБЕСПЕЧЕНИИ ПРЕДУПРЕДИТЕЛЬНЫХ МЕР ПО СОКРАЩЕНИЮ ПРОИЗВОДСТВЕННОГО ТРАВМАТИЗМА И ПРОФЕССИОНАЛЬ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ЗАБОЛЕВАНИЙ РАБОТНИКОВ И САНАТОРНО-КУРОРТНОГО ЛЕЧЕНИЯ РАБОТНИКОВ, ЗАНЯТЫХ НА РАБОТАХ С ВРЕДНЫМИ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И (ИЛИ) ОПАСНЫМИ ПРОИЗВОДСТВЕННЫМИ ФАКТОРАМИ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895480" y="1905120"/>
            <a:ext cx="3124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ЯВ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2514600" y="3505320"/>
            <a:ext cx="38862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рриториальный орган фонд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600200" y="2590920"/>
            <a:ext cx="57150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явление (лично, почтой, в электронном виде) с комплектом документов (лично, почтой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3" name="Прямая со стрелкой 6"/>
          <p:cNvCxnSpPr>
            <a:stCxn id="120" idx="2"/>
            <a:endCxn id="122" idx="0"/>
          </p:cNvCxnSpPr>
          <p:nvPr/>
        </p:nvCxnSpPr>
        <p:spPr>
          <a:xfrm flipH="1">
            <a:off x="4455360" y="22114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4" name="Прямая со стрелкой 12"/>
          <p:cNvCxnSpPr>
            <a:stCxn id="122" idx="2"/>
            <a:endCxn id="121" idx="0"/>
          </p:cNvCxnSpPr>
          <p:nvPr/>
        </p:nvCxnSpPr>
        <p:spPr>
          <a:xfrm flipH="1">
            <a:off x="4455360" y="31258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25" name="Прямоугольник 18"/>
          <p:cNvSpPr/>
          <p:nvPr/>
        </p:nvSpPr>
        <p:spPr>
          <a:xfrm>
            <a:off x="762120" y="4191120"/>
            <a:ext cx="2286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личие оснований, по которым заявление и комплект документов не может быть принято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Прямоугольник 19"/>
          <p:cNvSpPr/>
          <p:nvPr/>
        </p:nvSpPr>
        <p:spPr>
          <a:xfrm>
            <a:off x="838080" y="5486400"/>
            <a:ext cx="22100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ление и комплект документов  с обоснованием причин возврата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7" name="Соединительная линия уступом 42"/>
          <p:cNvCxnSpPr>
            <a:stCxn id="126" idx="1"/>
            <a:endCxn id="120" idx="1"/>
          </p:cNvCxnSpPr>
          <p:nvPr/>
        </p:nvCxnSpPr>
        <p:spPr>
          <a:xfrm flipH="1" rot="10800000">
            <a:off x="836640" y="2056680"/>
            <a:ext cx="2057760" cy="3886920"/>
          </a:xfrm>
          <a:prstGeom prst="bentConnector3">
            <a:avLst>
              <a:gd name="adj1" fmla="val -11111"/>
            </a:avLst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8" name="Прямая со стрелкой 44"/>
          <p:cNvCxnSpPr>
            <a:endCxn id="125" idx="0"/>
          </p:cNvCxnSpPr>
          <p:nvPr/>
        </p:nvCxnSpPr>
        <p:spPr>
          <a:xfrm flipH="1">
            <a:off x="1904400" y="3885120"/>
            <a:ext cx="99108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9" name="Прямая со стрелкой 48"/>
          <p:cNvCxnSpPr>
            <a:stCxn id="125" idx="2"/>
            <a:endCxn id="126" idx="0"/>
          </p:cNvCxnSpPr>
          <p:nvPr/>
        </p:nvCxnSpPr>
        <p:spPr>
          <a:xfrm>
            <a:off x="1905120" y="5105520"/>
            <a:ext cx="3888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0" name="Прямоугольник 58"/>
          <p:cNvSpPr/>
          <p:nvPr/>
        </p:nvSpPr>
        <p:spPr>
          <a:xfrm>
            <a:off x="4876920" y="4191120"/>
            <a:ext cx="2666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гистрация принятого заявления с комплектом документов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оугольник 59"/>
          <p:cNvSpPr/>
          <p:nvPr/>
        </p:nvSpPr>
        <p:spPr>
          <a:xfrm>
            <a:off x="4191120" y="5410080"/>
            <a:ext cx="4114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требование  документов (сведений) в рамках межведомственного взаимодействия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2" name="Прямая со стрелкой 15"/>
          <p:cNvCxnSpPr>
            <a:endCxn id="130" idx="0"/>
          </p:cNvCxnSpPr>
          <p:nvPr/>
        </p:nvCxnSpPr>
        <p:spPr>
          <a:xfrm>
            <a:off x="5257800" y="3885840"/>
            <a:ext cx="95328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3" name="Прямая со стрелкой 20"/>
          <p:cNvCxnSpPr>
            <a:stCxn id="130" idx="2"/>
            <a:endCxn id="131" idx="0"/>
          </p:cNvCxnSpPr>
          <p:nvPr/>
        </p:nvCxnSpPr>
        <p:spPr>
          <a:xfrm>
            <a:off x="6210360" y="5105520"/>
            <a:ext cx="38880" cy="3052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4" name="Прямая со стрелкой 30"/>
          <p:cNvCxnSpPr>
            <a:stCxn id="131" idx="2"/>
          </p:cNvCxnSpPr>
          <p:nvPr/>
        </p:nvCxnSpPr>
        <p:spPr>
          <a:xfrm flipH="1">
            <a:off x="6246000" y="63262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438280" y="762120"/>
            <a:ext cx="4114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требование  документов (сведений) в рамках межведомственного взаимодействия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1523880" y="2286000"/>
            <a:ext cx="2438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ители, у которых сумма страховых взносов составляет до 8 млн. руб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5181480" y="2286000"/>
            <a:ext cx="2438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ители, у которых сумма страховых взносов составляет более 8 млн. руб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457200" y="3809880"/>
            <a:ext cx="2209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нятие решения об отказе предоставления  услуги в течение  10 рабочих дн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3048120" y="3809880"/>
            <a:ext cx="2209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нятие решения о  предоставлении  услуги в течение  10 рабочих дн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6934320" y="3886200"/>
            <a:ext cx="914400" cy="9144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1" name="Прямая со стрелкой 9"/>
          <p:cNvCxnSpPr>
            <a:endCxn id="136" idx="0"/>
          </p:cNvCxnSpPr>
          <p:nvPr/>
        </p:nvCxnSpPr>
        <p:spPr>
          <a:xfrm flipH="1">
            <a:off x="2742840" y="1675440"/>
            <a:ext cx="99144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2" name="Прямая со стрелкой 12"/>
          <p:cNvCxnSpPr>
            <a:endCxn id="137" idx="0"/>
          </p:cNvCxnSpPr>
          <p:nvPr/>
        </p:nvCxnSpPr>
        <p:spPr>
          <a:xfrm>
            <a:off x="5333760" y="1676160"/>
            <a:ext cx="106740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3" name="Прямая со стрелкой 15"/>
          <p:cNvCxnSpPr>
            <a:stCxn id="136" idx="2"/>
            <a:endCxn id="139" idx="0"/>
          </p:cNvCxnSpPr>
          <p:nvPr/>
        </p:nvCxnSpPr>
        <p:spPr>
          <a:xfrm>
            <a:off x="2743200" y="3200040"/>
            <a:ext cx="14104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4" name="Прямая со стрелкой 18"/>
          <p:cNvCxnSpPr>
            <a:stCxn id="136" idx="2"/>
            <a:endCxn id="138" idx="0"/>
          </p:cNvCxnSpPr>
          <p:nvPr/>
        </p:nvCxnSpPr>
        <p:spPr>
          <a:xfrm flipH="1">
            <a:off x="1561320" y="3200040"/>
            <a:ext cx="11818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5" name="Прямая со стрелкой 21"/>
          <p:cNvCxnSpPr>
            <a:stCxn id="137" idx="2"/>
            <a:endCxn id="140" idx="0"/>
          </p:cNvCxnSpPr>
          <p:nvPr/>
        </p:nvCxnSpPr>
        <p:spPr>
          <a:xfrm>
            <a:off x="6400800" y="3200040"/>
            <a:ext cx="991440" cy="68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46" name="Прямоугольник 23"/>
          <p:cNvSpPr/>
          <p:nvPr/>
        </p:nvSpPr>
        <p:spPr>
          <a:xfrm>
            <a:off x="1219320" y="6172200"/>
            <a:ext cx="3124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ЯВ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Прямоугольник 24"/>
          <p:cNvSpPr/>
          <p:nvPr/>
        </p:nvSpPr>
        <p:spPr>
          <a:xfrm>
            <a:off x="609480" y="5257800"/>
            <a:ext cx="4572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твет заявителю в форме приказа (лично, почтой, в электронном виде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8" name="Прямая со стрелкой 26"/>
          <p:cNvCxnSpPr>
            <a:stCxn id="138" idx="2"/>
            <a:endCxn id="147" idx="0"/>
          </p:cNvCxnSpPr>
          <p:nvPr/>
        </p:nvCxnSpPr>
        <p:spPr>
          <a:xfrm>
            <a:off x="1562040" y="4800600"/>
            <a:ext cx="133416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9" name="Прямая со стрелкой 29"/>
          <p:cNvCxnSpPr>
            <a:stCxn id="139" idx="2"/>
            <a:endCxn id="147" idx="0"/>
          </p:cNvCxnSpPr>
          <p:nvPr/>
        </p:nvCxnSpPr>
        <p:spPr>
          <a:xfrm flipH="1">
            <a:off x="2894760" y="4800600"/>
            <a:ext cx="125820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0" name="Прямая со стрелкой 32"/>
          <p:cNvCxnSpPr/>
          <p:nvPr/>
        </p:nvCxnSpPr>
        <p:spPr>
          <a:xfrm flipH="1">
            <a:off x="2819160" y="5866920"/>
            <a:ext cx="216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1" name="Прямая со стрелкой 35"/>
          <p:cNvCxnSpPr>
            <a:endCxn id="135" idx="0"/>
          </p:cNvCxnSpPr>
          <p:nvPr/>
        </p:nvCxnSpPr>
        <p:spPr>
          <a:xfrm flipH="1">
            <a:off x="4493520" y="306360"/>
            <a:ext cx="396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r</dc:creator>
  <dc:description/>
  <dc:language>en-US</dc:language>
  <cp:lastModifiedBy>Андрей</cp:lastModifiedBy>
  <dcterms:modified xsi:type="dcterms:W3CDTF">2007-12-31T19:21:22Z</dcterms:modified>
  <cp:revision>1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